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DEB-F26F-433A-9E58-8E8B62DA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DC3-7908-493E-911F-4BE8F220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D33-E3C7-49D0-B107-D6DBA982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7D1-33F0-42D5-8C89-13759D83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73E-29A4-4B3D-84B4-49C632C6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595-A5FD-47A9-B2FE-ADBEE196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79E-CF68-4984-8941-70CC6C75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F77-0F8C-43AC-9801-D614834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B0F-416A-4137-A44E-3D8F8E40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B77-7DA1-43B9-8C44-D942D9BE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865-CB19-41F0-971F-9733709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781-AEC2-4EC3-A4E4-9684202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2C01-5D68-4A64-8B8F-AC21E7C22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6019920" cy="65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amen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e examen tiene como objetivo ayudar al participante a saber lo que ha aprend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Cuáles son los tres riesgos ocupacionales relacionados con el manejo de desechos infecciosos, desinfección de superficies contaminadas y respuesta ante incidentes de materiales infeccios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Qué significa TB?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____________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l riesgo de contraer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tuberculosi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n el trabajo es mayor para los empleados de limpieza del hospital que para las enfermeras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portar un piquete de aguja no es importante y puede meterse en problemas con su je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s guantes tienen hoyos pequeños y aunque los use, las bacterias pueden llegar a sus manos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45720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mbre:__________________Fecha: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6172200" cy="74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En qué parte de un hospital se encuentran los desechos patológic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s desechos patológicos son el único tipo de desechos infecciosos que deben ser incinerados para proteger la salud del públ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Por qué son un peligro para la salud pública los incineradores de desechos médic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ncione cuatro formas en las que un hospital puede reducir la cantidad de desechos infecciosos que envía a los incineradores para su elimin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iste un hongo que vive en el polvo y que provoca malestares en los pacientes y pueden morir de una infec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1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Qué significa ERV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624816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l ERV puede vivir en las superficies de los muebles de un hospital durante varios dí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3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 tiene que cambiar el agua del trapeador después de limpiar una habitación aisl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Qué cosas puede hacer para mejorar la forma en que limpi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5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En que parte del hospital donde trabaja puede encontrar una hoja de datos de seguridad del producto que utiliza para desifectar superficie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6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Qué puede hacer para reducir la probabilidad de picarse con una aguj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7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s correcto que un profesional en desinfección y limpieza limpie un derrame de mercu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6248160" cy="49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8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s desechos médicos regulados son un material peligro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s desechos médicos regulados son considerados como infecciosos y deben ser manejados con cuid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ualquier persona que prepare desechos médicos regulados no tratados para su embarque y eliminación debe estar capacitado y someterse a un examen sobre tres áreas de acuerdo con los reglamentos feder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 los desechos infecciosos son tratados en el hospital, dejan de ser un material peligroso y pueden ser embarcad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para su eliminación sin ningún tipo de empaque o etiquetado espe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2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 los desechos médicos regulados no tratados o los desechos infecciosos van a parar a una estación de transferencia o relleno sanitario, el hospital tendrá que pagar mucho dinero en mul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4:02:55Z</dcterms:created>
  <dc:creator>Renee Dufault</dc:creator>
  <dc:description/>
  <dc:language>en-US</dc:language>
  <cp:lastModifiedBy>Francisco Reséndiz González</cp:lastModifiedBy>
  <dcterms:modified xsi:type="dcterms:W3CDTF">2002-06-20T02:27:12Z</dcterms:modified>
  <cp:revision>8</cp:revision>
  <dc:subject/>
  <dc:title>No Slide Title</dc:title>
</cp:coreProperties>
</file>